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EDEB-6564-4918-9891-8A9A81A7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8B15-AFBD-48A8-BDDB-8DBA1A3B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C29C-0745-4120-A27E-B08D87BF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6EBE-8D8F-4EA3-94AE-55924AEE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4E79-6D80-4C64-A267-53CAC52F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E973-EE82-4738-8599-3F771924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7C94-3169-409A-9544-B4AFE595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E3D6-06B5-419C-A956-FD196F8F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5492-6787-4A7B-A162-A2376B22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0BD6-816E-4C09-896B-A5A3E940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1664-A181-47E3-8C94-D19FACD8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79B3-ED9F-4F30-8BDB-555BA9EE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oper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oper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oper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oper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33FF-5C73-42E5-9795-EFB532F35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oper Black"/>
              </a:rPr>
              <a:t>MEMORY…Again!</a:t>
            </a: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McKenzie Rene Thrasher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oper Black"/>
              </a:rPr>
              <a:t>Works Cited</a:t>
            </a: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Wong, Kate. "Older Adults Use Their Brains Differently Than Younger Adults Do:</a:t>
            </a:r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Scientific American." Science News, Articles and Information | Scientific </a:t>
            </a:r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American. Web. 04 Jan. 2012.</a:t>
            </a:r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&lt;http://www.scientificamerican.com/article.cfm?id=older-adults-use-their-br&gt;.</a:t>
            </a:r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Swaminathan, Nikhil. "Partial Recall: Why Memory Fades with Age: Scientific </a:t>
            </a:r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American." Science News, Articles and Information | Scientific American. Web.</a:t>
            </a:r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04 Jan. 2012. &lt;http://www.scientificamerican.com/article.cfm?id=partial-recall-</a:t>
            </a:r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why-memory-fades&gt;.</a:t>
            </a:r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"Memory Loss and Aging: Causes, Treatment, and Help for Memory Problems."</a:t>
            </a:r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Helpguide.org: Expert, Ad-free Articles Help Empower You with Knowledge,</a:t>
            </a:r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Support &amp; Hope. Web. 04 Jan. 2012. </a:t>
            </a:r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oper Black"/>
              </a:rPr>
              <a:t>&lt;http://helpguide.org/life/prevent_memory_loss.htm&gt;.</a:t>
            </a:r>
            <a:endParaRPr b="0" lang="en-US" sz="14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oper Black"/>
              </a:rPr>
              <a:t>What? And Why?</a:t>
            </a: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I want to know,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What affect does age on memory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I want to know why older people have more trouble remembering simple tasks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oper Black"/>
              </a:rPr>
              <a:t>Background Info.</a:t>
            </a: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oper Black"/>
              </a:rPr>
              <a:t>Younger testers had better scores than older testers</a:t>
            </a:r>
            <a:endParaRPr b="0" lang="en-US" sz="3000" spc="-1" strike="noStrike">
              <a:solidFill>
                <a:srgbClr val="000000"/>
              </a:solidFill>
              <a:latin typeface="Cooper Black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oper Black"/>
              </a:rPr>
              <a:t>Scientists noticed that younger testers used either the right or the left side of the brain</a:t>
            </a:r>
            <a:endParaRPr b="0" lang="en-US" sz="3000" spc="-1" strike="noStrike">
              <a:solidFill>
                <a:srgbClr val="000000"/>
              </a:solidFill>
              <a:latin typeface="Cooper Black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oper Black"/>
              </a:rPr>
              <a:t>While older used both at the same time</a:t>
            </a:r>
            <a:endParaRPr b="0" lang="en-US" sz="3000" spc="-1" strike="noStrike">
              <a:solidFill>
                <a:srgbClr val="000000"/>
              </a:solidFill>
              <a:latin typeface="Cooper Black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oper Black"/>
              </a:rPr>
              <a:t>We all have white matter pathways to the brain</a:t>
            </a:r>
            <a:endParaRPr b="0" lang="en-US" sz="3000" spc="-1" strike="noStrike">
              <a:solidFill>
                <a:srgbClr val="000000"/>
              </a:solidFill>
              <a:latin typeface="Cooper Black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oper Black"/>
              </a:rPr>
              <a:t>Older adult’s white matter pathways erode over time</a:t>
            </a:r>
            <a:endParaRPr b="0" lang="en-US" sz="30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oper Black"/>
              </a:rPr>
              <a:t>Hypothesis</a:t>
            </a: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I believe that,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The younger kids will do better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The older will be close though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oper Black"/>
              </a:rPr>
              <a:t>Items </a:t>
            </a: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Third Graders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Fourth Graders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Pencil and Paper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Dance 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Ipod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Mrs. Brown and Mrs. Riffel’s permission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oper Black"/>
              </a:rPr>
              <a:t>Process</a:t>
            </a: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Make up dance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Teach it to third and fourth on the same day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Wait a day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ome back and show the dance once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Have them do the dance in groups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I will rate them on a scale from 1-10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oper Black"/>
              </a:rPr>
              <a:t>Major Observations</a:t>
            </a: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A lot of the younger ones knew the dance very well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Some of the kids watched though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They watched the kids that knew it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The fourth graders did just as well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oper Black"/>
              </a:rPr>
              <a:t>Conclusion</a:t>
            </a: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Even though the older did better,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I still believe in my hypothesis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Maybe as it got older it would change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Still believe though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oper Black"/>
              </a:rPr>
              <a:t>Time Spent</a:t>
            </a:r>
            <a:endParaRPr b="1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Science classes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2 hours at the grade school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1 hour on the dance at home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6:25:24Z</dcterms:created>
  <dc:creator>USD376</dc:creator>
  <dc:description/>
  <dc:language>en-US</dc:language>
  <cp:lastModifiedBy>USD376</cp:lastModifiedBy>
  <dcterms:modified xsi:type="dcterms:W3CDTF">2012-03-08T17:01:03Z</dcterms:modified>
  <cp:revision>2</cp:revision>
  <dc:subject/>
  <dc:title>MEMORY…Again!</dc:title>
</cp:coreProperties>
</file>